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412-ACC5-452A-B113-2FD85155804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356-79E2-47CE-93F3-78C5E5BF781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FC7-7880-4FFF-AB37-F874F59C5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B98-891B-4A8B-8272-2DBC84040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A408-C5A4-41C9-B561-C068673AF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4042-8B68-4D8F-9DE7-42F2BE5CD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B2AA-9D50-403C-BE76-993901586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4F1-A07B-41CF-9751-5F07DAC8F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09BE-BFA5-484C-AEF6-A0C1C9175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EDFC-914A-4D9E-A2A9-DD0956395C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6BF3-5950-4EF7-AF9C-7506914E0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B249-A2AA-4616-BE54-6B80D4254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E00-510A-4155-8B20-207FDFD7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ADC-159B-49AB-9C41-6EB958EC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A90-2169-4C80-86D3-0F90330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CB9-F911-45F7-A0E8-76049ADE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D428-B33C-4012-9D99-3FBA01D2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604D-3AEF-4E82-BB99-512F8A7E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441A-1954-4BAF-BB75-2F3A9CA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731B-88D0-4BCF-94B4-52E2DDAD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9479-6EC1-4845-A21A-F0BBA37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03D1-1BAD-4AF7-9072-1C3B4CE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784-73AB-4D98-9B20-AA55869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E36-075F-4034-B48C-5415598F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CD6-D860-44DA-A9E2-3FC6723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771-087E-45B5-B260-1E015EA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B65-72D9-4E21-8CC1-61E1EF6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B01-C4A9-4A73-B5A2-0543F304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9E4-3555-4B86-AB6F-6E7BBA6B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08274-0F81-4537-BAE0-4ADEC4563C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A72B9-4A38-4265-BB9A-B49ED4EB08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7F8C1-22FE-4495-9823-BC16194FC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6B3D3-FD02-4DCC-8B49-69810F7838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74993-55A0-4EF3-A500-09AC16833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531-6FE5-4A93-BB29-B1754850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553FD-522F-4DCF-A7D1-A603E9CD18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6E6F5-C2E8-4567-A165-DF05DC6493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91B9B-6C08-4876-A001-933179416C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7D623-148B-4706-A4DA-55C2758B4C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9AE78-E351-4E40-BFB9-3DB5F392CA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EC41B-7734-4002-AA7A-6FA5A941D7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14A35-27C4-44A9-8B1C-EE7082D5D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664-65F3-4063-BC4C-F12EE282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A4B-425B-4588-84AB-2D91A913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A05-9989-41D3-B5B1-4B5C289D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D2B-60AA-441A-BED6-1CABBD2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AA3-9B6E-4572-88B6-BBE7165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EF6-D782-4D4D-8C2B-965BEDC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7D7-F43A-4FD7-91A1-A9EFBC2EF8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C140-99D0-4E35-A456-01A8875E80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5E2-BD8D-4163-A7EA-80099BAA3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d624"/>
                </a:solidFill>
                <a:latin typeface="Verdana"/>
              </a:rPr>
              <a:t>Problématique des réformes budgétaires Jour 3. </a:t>
            </a:r>
            <a:endParaRPr b="1" lang="en-US" sz="4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42600" y="4643280"/>
            <a:ext cx="70880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odule 3.2. Préparer et gérer un programme de réforme 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2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86756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9ED1-274B-4440-9F87-36572E13AB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03280" y="15984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42920" y="1324080"/>
            <a:ext cx="900108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Gestion budgétaire et financière du programme de réforme du GF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 cadre des dépenses du programme (5 à 7 ans) avec les modalités de trésorerie prévisionnell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s budgets annuels (programmes de travail) avec des objectifs de résultats explicites indiquant les sources de financement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s plans de passation des marchés et les plans d’affectation trimestriell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istingue: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s dépenses récurrentes et non récurrent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s coûts directs et indirec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s déclarations mensuelles des dépens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des rapports annuels de suivi et évalu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Soumet les états contrôlés annuellement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numéro de diapositiv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BBA-8188-4352-9BAC-189D06F3AC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5840" y="149976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35080" y="1820880"/>
            <a:ext cx="861984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Suivi des input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Suivi des activité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Suivi du nombre personnes formé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Suivi de la préparation et finalisation des textes juridiques et réglementair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Suivi de la production des rapport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Indicateurs de résultats du GF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PEFA complétés si nécessair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de qualité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sur les questions non traitées par le PEFA (ex. comptabilité matière=registres d’actifs physiques)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OCDE/CAD en matière de passation de marché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7360" y="11066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uivi et évalu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1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nditions de viabilité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8EFF-83EF-4C05-85F9-E70F5C48A8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24000" y="2392200"/>
            <a:ext cx="89280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Intégration dans le budget national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Gestion basée sur les structures des administrations publiques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Le Secrétariat de la réforme comprend quelques postes permanents si possible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Maintien en poste du personnel formé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Information régulière toutes les parties prenantes sur les progrès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3.1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Stratégie et programme de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Organisation de la gestion de la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325440" y="3357720"/>
            <a:ext cx="8299440" cy="1368360"/>
          </a:xfrm>
          <a:prstGeom prst="rightArrow">
            <a:avLst>
              <a:gd name="adj1" fmla="val 50000"/>
              <a:gd name="adj2" fmla="val 53464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1412640"/>
            <a:ext cx="864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a gestion de la réforme : trois niveaux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9960" y="2349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stratégique: Définition des objectifs, de la démarche, décis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Comité interministériel, Conseil des ministr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Comité directionne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technique nat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Secrétariat de la réforme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Groupes techniques thématiqu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des départements ministérie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 1" descr=""/>
          <p:cNvPicPr/>
          <p:nvPr/>
        </p:nvPicPr>
        <p:blipFill>
          <a:blip r:embed="rId1"/>
          <a:stretch/>
        </p:blipFill>
        <p:spPr>
          <a:xfrm>
            <a:off x="2987640" y="115920"/>
            <a:ext cx="5472000" cy="67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ZoneTexte 2"/>
          <p:cNvSpPr/>
          <p:nvPr/>
        </p:nvSpPr>
        <p:spPr>
          <a:xfrm>
            <a:off x="108000" y="191628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xemple d’organisation de la gestion des réform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essages cl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e stratégie et un programme de réforme doivent être établ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 dispositif de gestion de réforme efficace doit être mis en pla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Right Arrow 3"/>
          <p:cNvSpPr/>
          <p:nvPr/>
        </p:nvSpPr>
        <p:spPr>
          <a:xfrm>
            <a:off x="111600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ight Arrow 4"/>
          <p:cNvSpPr/>
          <p:nvPr/>
        </p:nvSpPr>
        <p:spPr>
          <a:xfrm rot="10800000">
            <a:off x="622728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0040" y="249984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Jour 1: Approches pour une réforme de la GF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Jour 2 : Sous-systèmes de la GFP et priorités dans les réformes par sous-systèm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Jour 3: Gérer le changement - Préparer un programme de réforme - Etude de ca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Plan du cou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6A8-FCC4-4A5B-BF00-81A6269E11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5AC5-28FE-4E46-B5F1-98F660AA37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85840" y="149976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85840" y="1643040"/>
            <a:ext cx="86788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Module 3.2: objectif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Examiner certaines questions essentielles liées à la préparation et la gestion de la réforme de la GF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3.1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Stratégie et programme de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rganisation de la gestion de la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23920" y="2421000"/>
            <a:ext cx="8299440" cy="1368360"/>
          </a:xfrm>
          <a:prstGeom prst="rightArrow">
            <a:avLst>
              <a:gd name="adj1" fmla="val 50000"/>
              <a:gd name="adj2" fmla="val 53464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8610480" y="6429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383-B61E-4508-A4C6-A4D19AF091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49976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80880" y="1411200"/>
            <a:ext cx="85838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Document “Stratégie de la Réforme”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Document du Conseil des ministres relativement bref: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ert de programme de mise en œuv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amine en détail le programme de réforme de la GFP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pose un cadre institutionn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dentifie les facteurs de risque importants (cadre légal, passation des marchés, viabilité, etc.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ésente un programme pluriannuel des dépens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pose le déploiement des activités, le calendrier et le phasage de la mise en œuv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es modalités de suivi et évalu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pose des modalités de financ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es responsabilités pour les différentes composan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ert de base pour convenir d’une approche avec les diverses parties prenan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214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Le programme de réforme (1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286000"/>
            <a:ext cx="82296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8532720" y="6351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FE03-8A42-458D-AEF8-63368EC090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24000" y="2205000"/>
            <a:ext cx="87674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’objectif global du programme de réforme de la GFP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Établit la liste de toutes les composantes de la réform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e phasage des réform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pour chaque composante l’objectif principal, l’objet de la composante, l’institution chef de file et les liens avec les autres composan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épare des plans d’action pour chaque composante qui font état des résultats, des intrants, des activités, des étapes pouvant faire l’objet d’une révision, du calendrier de déploi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stimer les dépenses prévisionnelles, identifier les lignes du budget national les finançant (y.c. financement extérieur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Le programme de réforme (2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6183-6700-4059-BE03-87110F7E75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8760" y="2786040"/>
            <a:ext cx="87152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2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pécifie les modalités de suivi et évaluation.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’instrument de financement à coordination uniqu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pécifie les règles de gestion financière et de passation des marché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pécifie les dispositifs institutionnels – inclut un groupe de pilotage de haut niveau, un comité directeur technique, des groupes de travai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41068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Verdana"/>
              </a:rPr>
              <a:t>Les risques dans la mise en œuvre du programme de réforme de la GF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BF3-B9D8-4475-BFC3-3220A9F71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5840" y="642960"/>
            <a:ext cx="80391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82520" y="1268280"/>
            <a:ext cx="91440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bsence de volonté politiqu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ques liés au contenu de la réform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ontraintes techniques et de capacité mal prises en comp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t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ques liés aux dispositions institutionnelles de gestion de la réform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tructure de gestion inadapté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bsence d’appui durable du partenaire de coopé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adre inefficace de suivi et é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adre légal et réglementaire incomplet ou ineffica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ques dans la mise en œuv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Retards dans le calendrier des activités (ex. retards concernant les passations de marchés, retards de financement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alendrier de déploiement inadéqu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94896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5494"/>
                </a:solidFill>
                <a:latin typeface="Verdana"/>
              </a:rPr>
              <a:t>Atténuation et gestion des risqu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86439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666-A249-4C5C-B9DF-64C41906D7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52600" y="1395360"/>
            <a:ext cx="80388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41240" y="165276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6680" y="1916280"/>
            <a:ext cx="889308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ngagement soutenu du politique et des partenaires de coopér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raiter le développement des capacité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tructures de gestion adéquates et efficac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dopte un mécanisme de financement coordonné souple et unique avec contrôles et communications de rappor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dopte une approche coordonnée du cadre légal et réglementair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ystème de passations de marchés efficaces et efficiente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dopter un calendrier adéqua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ttention particulière portée sur la gestion des liens entre les différentes composantes, du déploiement, du phasage et du calendrie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oordonne le programme de réforme de la GFP avec d’autres réformes du secteur publi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cp:lastPrinted>2013-01-06T15:18:40Z</cp:lastPrinted>
  <dcterms:modified xsi:type="dcterms:W3CDTF">2016-06-09T07:36:53Z</dcterms:modified>
  <cp:revision>116</cp:revision>
  <dc:subject/>
  <dc:title>Slide 1</dc:title>
</cp:coreProperties>
</file>